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4696-2784-478B-B36D-459313D00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D782-31EE-472E-BB29-0C2822176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F10F-FB8B-4A4E-A214-A6C4739AE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EB55-CD75-4F24-BABE-B646F16AF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74AC4-D67A-42E8-94EC-D57C1E8A8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BA93C-342D-4A2A-880C-BD1B24C74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C24E2-59CB-47F6-893E-09E32C2EB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C623B-BD5A-4EB3-ADFA-C0E4EF61E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94823-E9FE-4B5A-8725-822EB8702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B77D9-C66D-4E87-A2C8-6260F81DE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03ABE-067F-4F33-BA8D-DB36A6505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07D4-5492-4790-84C4-1BA6B671A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80A9E-B2AF-4616-9B23-437A890C9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B199C-6341-4301-9408-6B96AF5B9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72275-66A6-421F-9E8B-C435AD90C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CF417-016A-4DAB-8A4C-C517DBC2E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FB37A-E443-4038-B5DC-3DFFB24FE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4D42-53F7-49E9-9247-BB7D42CE0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D890-2EAD-4785-ABC6-A3F0AD4DB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BEEC-ED9E-4A80-A3A5-8069F9FBF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D413-E9B5-4956-B7C3-22E5FB9BE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8D69-963C-4F94-A127-5509E3544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4F79-FECF-4949-9A0A-2D1FA6B9B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5CA0-9B6C-4EEF-AFCD-6F5609936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Rectangle 3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Line 31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7E957-8933-4266-A6B5-CB467AE1A0A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Group 5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2" name="Rectangle 6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3" name="Rectangle 7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4" name="Rectangle 8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Rectangle 9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Freeform 10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Freeform 11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Freeform 12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Freeform 13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Freeform 14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Freeform 15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Freeform 16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Freeform 17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Rectangle 18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Rectangle 19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Rectangle 20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Rectangle 21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Freeform 22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Freeform 23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Freeform 24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Freeform 25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Freeform 26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Freeform 27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Freeform 28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Freeform 29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Freeform 30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Freeform 31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Rectangle 32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Line 33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Line 34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1" name="Group 35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2" name="Rectangle 36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3" name="Group 37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4" name="Group 38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5" name="Group 39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6" name="Rectangle 40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a634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Rectangle 41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a6340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AutoShape 42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36520 w 1631880"/>
                      <a:gd name="textAreaRight" fmla="*/ 1395360 w 1631880"/>
                      <a:gd name="textAreaTop" fmla="*/ 42840 h 295200"/>
                      <a:gd name="textAreaBottom" fmla="*/ 25236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645" y="21600"/>
                        </a:lnTo>
                        <a:lnTo>
                          <a:pt x="18955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a6340"/>
                      </a:gs>
                      <a:gs pos="100000">
                        <a:srgbClr val="e5d58a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AutoShape 43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36520 w 1631880"/>
                      <a:gd name="textAreaRight" fmla="*/ 1395360 w 1631880"/>
                      <a:gd name="textAreaTop" fmla="*/ 42840 h 295200"/>
                      <a:gd name="textAreaBottom" fmla="*/ 25236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645" y="21600"/>
                        </a:lnTo>
                        <a:lnTo>
                          <a:pt x="18955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a634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0" name="Rectangle 44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Oval 45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Oval 46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Oval 47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" name="Group 48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5" name="Arc 49"/>
                <p:cNvSpPr/>
                <p:nvPr/>
              </p:nvSpPr>
              <p:spPr>
                <a:xfrm>
                  <a:off x="1359000" y="2236680"/>
                  <a:ext cx="54000" cy="4572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432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529"/>
                        <a:pt x="11929" y="43199"/>
                        <a:pt x="0" y="43200"/>
                      </a:cubicBezTo>
                    </a:path>
                    <a:path stroke="0" w="21600" h="432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529"/>
                        <a:pt x="11929" y="43199"/>
                        <a:pt x="0" y="432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Arc 50"/>
                <p:cNvSpPr/>
                <p:nvPr/>
              </p:nvSpPr>
              <p:spPr>
                <a:xfrm>
                  <a:off x="1312920" y="2236680"/>
                  <a:ext cx="54000" cy="4572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43200">
                      <a:moveTo>
                        <a:pt x="21600" y="43200"/>
                      </a:move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-1" y="9670"/>
                        <a:pt x="9670" y="0"/>
                        <a:pt x="21599" y="0"/>
                      </a:cubicBezTo>
                    </a:path>
                    <a:path stroke="0" w="21600" h="43200">
                      <a:moveTo>
                        <a:pt x="21600" y="43200"/>
                      </a:move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-1" y="9670"/>
                        <a:pt x="9670" y="0"/>
                        <a:pt x="21599" y="0"/>
                      </a:cubicBezTo>
                      <a:lnTo>
                        <a:pt x="21600" y="21600"/>
                      </a:lnTo>
                      <a:lnTo>
                        <a:pt x="21600" y="432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AutoShape 51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a6340"/>
                    </a:gs>
                    <a:gs pos="5000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Freeform 52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Freeform 53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Oval 54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886B2-9F25-423F-8A88-03A29A518694}" type="slidenum">
              <a:rPr b="0" lang="ru-RU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1403280" y="156636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Arial"/>
              </a:rPr>
              <a:t>Формирование культуры здорового питания</a:t>
            </a:r>
            <a:endParaRPr b="1" lang="en-US" sz="40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3" name="Скругленный прямоугольник 3"/>
          <p:cNvSpPr/>
          <p:nvPr/>
        </p:nvSpPr>
        <p:spPr>
          <a:xfrm>
            <a:off x="3683160" y="6477120"/>
            <a:ext cx="177768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25560" bIns="5076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5biologiya.net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67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спекты технического окружения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500120" y="980640"/>
            <a:ext cx="74916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Санитария:</a:t>
            </a: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 чистая вода, санитарно-технические сооружения и надлежащее удаление отходов.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Ассортимент здоровой пищи</a:t>
            </a: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: полезные для здоровья и высококачественные продукты и питание.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Приятная обстановка для приема пищи</a:t>
            </a:r>
            <a:r>
              <a:rPr b="1" lang="ru-RU" sz="2000" spc="-1" strike="noStrike">
                <a:solidFill>
                  <a:srgbClr val="0066ff"/>
                </a:solidFill>
                <a:latin typeface="Arial"/>
              </a:rPr>
              <a:t>:</a:t>
            </a: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 достаточно просторная и комфортабельная обстановка для общения во время приема пищи и для получения удовольствия от процесса питания.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Сторонние поставщики</a:t>
            </a: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: поставщики продуктов питания, находящиеся на школьной территории или рядом с ней и предлагающие различные продукты, содействуя тем самым усилиям школы в области охраны здоровья.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Специальные сооружения</a:t>
            </a: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: сооружения, позволяющие осуществлять практическую деятельность, связанную с питанием, например, приготовление пищи, эксперименты с продуктами и выращивание продуктов.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спекты благоприятной для здоровья психосоциальной обстановки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оддержка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:</a:t>
            </a: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 Обстановка должна способствовать формированию полезных для здоровья взглядов и соответствующим действиям школьного сообщества и должна поддерживать другие усилия в области охраны здоровья в школе.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ример учителей:</a:t>
            </a: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 Учителя играют важную роль, являясь положительным примером для школьников и их наставниками. Питаясь с пользой для здоровья, они способствуют формированию у школьников здорового образа жизни.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оддержка сверстников:</a:t>
            </a: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 Учащиеся могут обеспечить поддержку сверстникам, давая им рекомендации и постоянно напоминая о важности здорового питания.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Рациональное сбалансированное пита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Питание человека должно быть рациональным, сбалансированным, т.е. соответствовать физиологическим потребностям организма с учетом условий труда, климатических особенностей местности, возраста, массы тела, пола и состояния здоровья человека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Основные принципы сбалансированного питания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Строгое соответствие энергетической ценности пищи энергозатратам человека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(</a:t>
            </a: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Человек должен получать с пищей столько энергии, сколько он тратит ее за определенный отрезок времени).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Составляющие пищевые вещества (белки, жиры, углеводы, микроэлементы) должны находиться в строго определенном соотношении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       </a:t>
            </a: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(</a:t>
            </a: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Нормы соотношения белков, жиров, углеводов в рационе  основных групп населения  составляют 1:1,1:4; у лиц, занятых физическим трудом, - 1:1,3:5; у пожилых людей – 1:1,1:4,8).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500120" y="181080"/>
            <a:ext cx="74916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500120" y="980640"/>
            <a:ext cx="74916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Важным показателем в сбалансированном питании является соблюдение режима питания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00"/>
                </a:solidFill>
                <a:latin typeface="Arial"/>
              </a:rPr>
              <a:t>      </a:t>
            </a:r>
            <a:r>
              <a:rPr b="1" i="1" lang="ru-RU" sz="1800" spc="-1" strike="noStrike">
                <a:solidFill>
                  <a:srgbClr val="333300"/>
                </a:solidFill>
                <a:latin typeface="Arial"/>
              </a:rPr>
              <a:t>Режим питания – это распределение пищи в течение дня по времени, калорийности, объему.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Создание оптимальных условий для усвоения пищи человеком при составлении суточного рациона питания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00"/>
                </a:solidFill>
                <a:latin typeface="Arial"/>
              </a:rPr>
              <a:t>     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00"/>
                </a:solidFill>
                <a:latin typeface="Arial"/>
              </a:rPr>
              <a:t>      </a:t>
            </a:r>
            <a:r>
              <a:rPr b="1" i="1" lang="ru-RU" sz="1800" spc="-1" strike="noStrike">
                <a:solidFill>
                  <a:srgbClr val="333300"/>
                </a:solidFill>
                <a:latin typeface="Arial"/>
              </a:rPr>
              <a:t>Продукты, содержащие белки животного происхождения, следует планировать на первую половину дня, а молочно-растительные – на вторую.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00"/>
                </a:solidFill>
                <a:latin typeface="Arial"/>
              </a:rPr>
              <a:t>      </a:t>
            </a:r>
            <a:r>
              <a:rPr b="1" i="1" lang="ru-RU" sz="1800" spc="-1" strike="noStrike">
                <a:solidFill>
                  <a:srgbClr val="333300"/>
                </a:solidFill>
                <a:latin typeface="Arial"/>
              </a:rPr>
              <a:t>Энергетическая ценность суточных рационов должна обеспечиваться в основном углеводами растительной пищи, которая обогащает пищу витаминами, минеральными веществами и клетчаткой 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331640" y="259920"/>
            <a:ext cx="7491240" cy="15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новы здоровьесберегающего питания. </a:t>
            </a:r>
            <a:br>
              <a:rPr sz="2800"/>
            </a:b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И.Ю.Яланузян - педагог-организатор санитарного надзора, заведующая технологической пищевой лабораторией ДО Я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500120" y="1844640"/>
            <a:ext cx="7491600" cy="43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1. Перечень документов, применяемых в работе предприятиями общественного питания при образовательных   учреждениях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2. Перечень продуктов и блюд, которые не допускаются для реализации в организациях общественного питания образовательных учреждений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3. Рекомендуемый ассортимент пищевых продуктов для организации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дополнительного питания обучающихся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4. Расчет дневного рациона питания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Суточный расход энергии человеко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Энергия, затрачиваемая на работу внутренних органов и теплообмен, называется основным обменом.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При температуре воздуха 20 ºС, полном покое, натощак основной обмен составляет 1 ккал в 1 ч на 1 кг массы тела человека. Следовательно, основной обмен зависит от массы тела, пола, возраста человека</a:t>
            </a: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.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Расчет дневного рациона питания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ПИЩЕВЫЕ     ДОБАВ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Пищевые добавки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 – это природные и синтетические химические соединения, которые не представляют собой источник энергии, как пища, а служат лишь добавкой в продукты для улучшения их качества.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Классификация пищевых добавок выглядит следующим образом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100-Е182  -  красители</a:t>
            </a:r>
            <a:r>
              <a:rPr b="1" lang="ru-RU" sz="1800" spc="-1" strike="noStrike">
                <a:solidFill>
                  <a:srgbClr val="333300"/>
                </a:solidFill>
                <a:latin typeface="Arial"/>
              </a:rPr>
              <a:t>  -  устанавливают или восстанавливают цвет продукта.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200 и далее  -  консерванты</a:t>
            </a:r>
            <a:r>
              <a:rPr b="1" lang="ru-RU" sz="1800" spc="-1" strike="noStrike">
                <a:solidFill>
                  <a:srgbClr val="333300"/>
                </a:solidFill>
                <a:latin typeface="Arial"/>
              </a:rPr>
              <a:t>  - повышает срок хранения продуктов, защищая их от микробов; добавки при  созревании вин.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300 и далее  -  антиокислители</a:t>
            </a:r>
            <a:r>
              <a:rPr b="1" lang="ru-RU" sz="1800" spc="-1" strike="noStrike">
                <a:solidFill>
                  <a:srgbClr val="333300"/>
                </a:solidFill>
                <a:latin typeface="Arial"/>
              </a:rPr>
              <a:t>  -  защищают от окисления, например, от прогоркания жиров, изменения цвета.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400 и далее  -  стабилизаторы и загустители</a:t>
            </a:r>
            <a:r>
              <a:rPr b="1" lang="ru-RU" sz="1800" spc="-1" strike="noStrike">
                <a:solidFill>
                  <a:srgbClr val="333300"/>
                </a:solidFill>
                <a:latin typeface="Arial"/>
              </a:rPr>
              <a:t>  -  повышают вязкость продукта.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450 и далее  -  эмульгаторы</a:t>
            </a:r>
            <a:r>
              <a:rPr b="1" lang="ru-RU" sz="1800" spc="-1" strike="noStrike">
                <a:solidFill>
                  <a:srgbClr val="333300"/>
                </a:solidFill>
                <a:latin typeface="Arial"/>
              </a:rPr>
              <a:t>  - создают однородную смесь  не смешиваемых фаз, например воды и масла.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500 и далее  - регуляторы кислот и разрыхлители.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600 и далее  -  усилители вкуса и аромата</a:t>
            </a:r>
            <a:r>
              <a:rPr b="1" lang="ru-RU" sz="1800" spc="-1" strike="noStrike">
                <a:solidFill>
                  <a:srgbClr val="333300"/>
                </a:solidFill>
                <a:latin typeface="Arial"/>
              </a:rPr>
              <a:t> – делают вкус продукта более насыщенным и ароматным.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700 и Е800  -  запасные индексы.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900  - глазирующие агенты и улучшители хлеба</a:t>
            </a:r>
            <a:r>
              <a:rPr b="1" lang="ru-RU" sz="1800" spc="-1" strike="noStrike">
                <a:solidFill>
                  <a:srgbClr val="333300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ПИЩЕВЫЕ ДОБАВКИ, ЗАПРЕЩЕННЫЕ В МИРЕ, НО РАЗРЕШЕННЫЕ В РОССИИ.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Arial"/>
              </a:rPr>
              <a:t>Рациональное питание</a:t>
            </a:r>
            <a:r>
              <a:rPr b="1" i="1" lang="ru-RU" sz="3200" spc="-1" strike="noStrike">
                <a:solidFill>
                  <a:srgbClr val="333300"/>
                </a:solidFill>
                <a:latin typeface="Arial"/>
              </a:rPr>
              <a:t> – </a:t>
            </a: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одно из основных средств обеспечения нормального физического и умственного развития детей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   </a:t>
            </a: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Оно повышает их устойчивость к болезням и успеваемость</a:t>
            </a:r>
            <a:r>
              <a:rPr b="1" i="1" lang="en-US" sz="24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и обеспечивается правильной организацией  </a:t>
            </a: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ПИТАНИЯ ОБУЧАЮЩИХСЯ.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1547640" y="333000"/>
            <a:ext cx="6912000" cy="575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Все болезни к нам приходят через рот.</a:t>
            </a:r>
            <a:br>
              <a:rPr sz="3200"/>
            </a:br>
            <a:r>
              <a:rPr b="1" i="1" lang="ru-RU" sz="1800" spc="-1" strike="noStrike">
                <a:solidFill>
                  <a:srgbClr val="333300"/>
                </a:solidFill>
                <a:latin typeface="Arial"/>
              </a:rPr>
              <a:t>                                                 Народная мудрость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Полноценное питание – залог здоровья.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00"/>
                </a:solidFill>
                <a:latin typeface="Arial"/>
              </a:rPr>
              <a:t>                                               </a:t>
            </a:r>
            <a:r>
              <a:rPr b="1" i="1" lang="ru-RU" sz="1800" spc="-1" strike="noStrike">
                <a:solidFill>
                  <a:srgbClr val="333300"/>
                </a:solidFill>
                <a:latin typeface="Arial"/>
              </a:rPr>
              <a:t>Русская народная пословица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Животное насыщается, человек ест, умный человек питается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00"/>
                </a:solidFill>
                <a:latin typeface="Arial"/>
              </a:rPr>
              <a:t>Бриайт Саварен, французский физиолог 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00"/>
                </a:solidFill>
                <a:latin typeface="Arial"/>
              </a:rPr>
              <a:t>                                                    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00"/>
                </a:solidFill>
                <a:latin typeface="Times New Roman"/>
              </a:rPr>
              <a:t> 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8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80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1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1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80"/>
                                        <p:tgtEl>
                                          <p:spTgt spid="1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Режим питани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Промежутки между отдельными приемами пищи не должны превышать 4–5 часов</a:t>
            </a: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.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Промежуток между ужином и завтраком следующего дня (ночной промежуток) не должен превышать 12 часов</a:t>
            </a: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. При обычном распорядке дня дети в школе получают завтрак, а при продленном дне – завтрак и обед.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Домашнее питание должно дополнять школьное, что обеспечивает полноценность всего суточного пищевого рациона. Регулярный прием пищи ежедневно в одно и то же время в более или менее равномерных количествах является основой рационального детского питания.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03280" y="189000"/>
            <a:ext cx="7491600" cy="752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00"/>
                </a:solidFill>
                <a:latin typeface="Arial"/>
              </a:rPr>
              <a:t>Режим питания детей О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500120" y="980640"/>
            <a:ext cx="74916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Режим питания детей,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занимающихся 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в первую смену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: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1-й завтрак (8 часов) – 20%;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2-й завтрак (11 часов) – 20%;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Обед (15 часов) – 35%;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Ужин (20 часов) – 25%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Для школьников, занимающихся во вторую смену: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Завтрак (8 часов 30 мин.) – 20%;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Обед (12 часов 30 мин.) – 35%;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Полдник (16 часов 30 мин.) – 20%;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Ужин (20 часов 30 мин.) – 25%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500120" y="73080"/>
            <a:ext cx="74916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500120" y="764640"/>
            <a:ext cx="7491600" cy="547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Питание детей должно наиболее полно удовлетворять как энергетические, так и ростовые нужды.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00"/>
                </a:solidFill>
                <a:latin typeface="Arial"/>
              </a:rPr>
              <a:t>Потребность в калориях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В</a:t>
            </a: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333300"/>
                </a:solidFill>
                <a:latin typeface="Arial"/>
              </a:rPr>
              <a:t>сутки: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ДЛЯ ДЕТЕЙ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младшего школьного возраста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7 – 10 лет - 2400 ккал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(</a:t>
            </a: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такая же, как потребность в калориях пожилых людей 60–70 лет).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ДЛЯ ДЕТЕЙ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в возрасте 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11–13 лет - 2850 ккал </a:t>
            </a:r>
            <a:r>
              <a:rPr b="1" i="1" lang="ru-RU" sz="2800" spc="-1" strike="noStrike">
                <a:solidFill>
                  <a:srgbClr val="333300"/>
                </a:solidFill>
                <a:latin typeface="Arial"/>
              </a:rPr>
              <a:t>(</a:t>
            </a: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столько же, сколько и взрослые, занятые трудом, требующим несущественных физических усилий)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.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ДЛЯ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 ПОДРОСТКОВ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14–17 лет 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( </a:t>
            </a: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ЮНОШЕЙ)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 - 3150 ккал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00"/>
                </a:solidFill>
                <a:latin typeface="Arial"/>
              </a:rPr>
              <a:t>(большая, чем у взрослых).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Состав пищевого рациона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белки;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жиры;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углеводы;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минеральные вещества;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витамины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Виды белков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00"/>
                </a:solidFill>
                <a:latin typeface="Arial"/>
              </a:rPr>
              <a:t>  </a:t>
            </a:r>
            <a:r>
              <a:rPr b="1" i="1" lang="ru-RU" sz="3600" spc="-1" strike="noStrike">
                <a:solidFill>
                  <a:srgbClr val="333300"/>
                </a:solidFill>
                <a:latin typeface="Arial"/>
              </a:rPr>
              <a:t>животные </a:t>
            </a:r>
            <a:endParaRPr b="1" lang="en-US" sz="3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00"/>
                </a:solidFill>
                <a:latin typeface="Arial"/>
              </a:rPr>
              <a:t>    </a:t>
            </a: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Основные источники животного белка – молоко и молочные продукты, мясо, рыба и яйца.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333300"/>
                </a:solidFill>
                <a:latin typeface="Arial"/>
              </a:rPr>
              <a:t>растительные  </a:t>
            </a:r>
            <a:r>
              <a:rPr b="1" lang="ru-RU" sz="3600" spc="-1" strike="noStrike">
                <a:solidFill>
                  <a:srgbClr val="3333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00"/>
                </a:solidFill>
                <a:latin typeface="Arial"/>
              </a:rPr>
              <a:t>   </a:t>
            </a: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Основные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 </a:t>
            </a: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источники растительного белка - хлебобулочные изделия, крупяные и макаронные изделия, а также картофель, горох, фасоль и т.д.  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Arial"/>
              </a:rPr>
              <a:t>Жиры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333300"/>
                </a:solidFill>
                <a:latin typeface="Arial"/>
              </a:rPr>
              <a:t>наиболее важные 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источники жира</a:t>
            </a:r>
            <a:r>
              <a:rPr b="1" i="1" lang="ru-RU" sz="2800" spc="-1" strike="noStrike">
                <a:solidFill>
                  <a:srgbClr val="333300"/>
                </a:solidFill>
                <a:latin typeface="Arial"/>
              </a:rPr>
              <a:t>: растительное и сливочное масло.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Значение жиров в питании детей:</a:t>
            </a:r>
            <a:r>
              <a:rPr b="1" i="1" lang="ru-RU" sz="2800" spc="-1" strike="noStrike">
                <a:solidFill>
                  <a:srgbClr val="3333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используются для роста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для построения нервной ткани и тканей мозга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жиры являются растворителями витаминов А и Д, обеспечивая наиболее полное их усвоение.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Arial"/>
              </a:rPr>
              <a:t>Углеводы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Углеводы</a:t>
            </a:r>
            <a:r>
              <a:rPr b="1" i="1" lang="ru-RU" sz="2800" spc="-1" strike="noStrike">
                <a:solidFill>
                  <a:srgbClr val="333300"/>
                </a:solidFill>
                <a:latin typeface="Arial"/>
              </a:rPr>
              <a:t> -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 основной источник энергии для мышечной деятельности.  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00"/>
                </a:solidFill>
                <a:latin typeface="Arial"/>
              </a:rPr>
              <a:t>Количество углеводов в питании школьников должно быть в 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4 раза больше</a:t>
            </a:r>
            <a:r>
              <a:rPr b="1" i="1" lang="ru-RU" sz="2800" spc="-1" strike="noStrike">
                <a:solidFill>
                  <a:srgbClr val="333300"/>
                </a:solidFill>
                <a:latin typeface="Arial"/>
              </a:rPr>
              <a:t>, чем белков и жиров, т. е. 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320–420 г</a:t>
            </a:r>
            <a:r>
              <a:rPr b="1" i="1" lang="ru-RU" sz="2800" spc="-1" strike="noStrike">
                <a:solidFill>
                  <a:srgbClr val="333300"/>
                </a:solidFill>
                <a:latin typeface="Arial"/>
              </a:rPr>
              <a:t> в сутки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Нужно использовать легко усвояемые углеводы (сахар, мед, варенье, кондитерские изделия и др.).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500120" y="37440"/>
            <a:ext cx="74916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500120" y="764640"/>
            <a:ext cx="7491600" cy="547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Питание  ребенка должно   включать все пищевые вещества в оптимальных соотношениях.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На каждый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1 грамм белка должно приходиться 1 г жира и 4 г углеводов.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Энергетическая ценность: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1 г белка составляет 4 ккал,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1 г жира – 9 ккал,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1 г углеводов – 4 ккал.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Другие органические вещества не учитываются, так как их содержание в продуктах незначительное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ять принципов рационального питания дете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Регулярность</a:t>
            </a:r>
            <a:r>
              <a:rPr b="1" i="1" lang="ru-RU" sz="3600" spc="-1" strike="noStrike">
                <a:solidFill>
                  <a:srgbClr val="333300"/>
                </a:solidFill>
                <a:latin typeface="Arial"/>
              </a:rPr>
              <a:t>.</a:t>
            </a:r>
            <a:r>
              <a:rPr b="1" lang="ru-RU" sz="36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Режим питания призван обеспечить равномерную нагрузку в системе пищеварения в течение дня, привычка питаться регулярно должна воспитываться с раннего детства, и основа ее – организация питания в семье, позволяющая сформировать "рефлекс на время"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Разнообразие</a:t>
            </a:r>
            <a:r>
              <a:rPr b="1" i="1" lang="ru-RU" sz="3600" spc="-1" strike="noStrike">
                <a:solidFill>
                  <a:srgbClr val="333300"/>
                </a:solidFill>
                <a:latin typeface="Arial"/>
              </a:rPr>
              <a:t>. </a:t>
            </a: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Формирование у  детей разнообразного вкусового кругозора, чтобы  им нравились разные продукты и блюда.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500120" y="73080"/>
            <a:ext cx="74916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500120" y="907920"/>
            <a:ext cx="7491600" cy="533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Адекватность.</a:t>
            </a:r>
            <a:r>
              <a:rPr b="1" i="1" lang="ru-RU" sz="3200" spc="-1" strike="noStrike">
                <a:solidFill>
                  <a:srgbClr val="3333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Пища, которую съедает в течение дня ребенок, должна восполнять энерготраты его организма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333300"/>
                </a:solidFill>
                <a:latin typeface="Arial"/>
              </a:rPr>
              <a:t>Р</a:t>
            </a: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ацион и режим питания ребенка, активно занимающегося спортом, должен отличаться от рациона и режима питания его менее подвижных сверстников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   </a:t>
            </a: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Питание во время болезни – от питания в обычное время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   </a:t>
            </a: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Летний стол – от зимнего стола и т.д.</a:t>
            </a:r>
            <a:br>
              <a:rPr sz="2400"/>
            </a:b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В деле контроля адекватности питания основная ответственность – на взрослых.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476360" y="333360"/>
            <a:ext cx="7491600" cy="2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618920" y="692280"/>
            <a:ext cx="7203960" cy="55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0000ff"/>
                </a:solidFill>
                <a:latin typeface="Arial"/>
              </a:rPr>
              <a:t>Здоровое питание</a:t>
            </a:r>
            <a:r>
              <a:rPr b="1" lang="ru-RU" sz="3600" spc="-1" strike="noStrike">
                <a:solidFill>
                  <a:srgbClr val="333300"/>
                </a:solidFill>
                <a:latin typeface="Arial"/>
              </a:rPr>
              <a:t> – </a:t>
            </a:r>
            <a:r>
              <a:rPr b="1" i="1" lang="ru-RU" sz="2800" spc="-1" strike="noStrike">
                <a:solidFill>
                  <a:srgbClr val="333300"/>
                </a:solidFill>
                <a:latin typeface="Arial"/>
              </a:rPr>
              <a:t>это совместное воздействие потребляемой нами пищи, нашего состояния здоровья и предпринимаемых нами усилий для улучшения здоровья, как собственного, так и окружающих</a:t>
            </a:r>
            <a:r>
              <a:rPr b="1" i="1" lang="ru-RU" sz="2800" spc="-1" strike="noStrike">
                <a:solidFill>
                  <a:srgbClr val="333300"/>
                </a:solidFill>
                <a:latin typeface="Times New Roman"/>
              </a:rPr>
              <a:t>.</a:t>
            </a:r>
            <a:r>
              <a:rPr b="1" lang="ru-RU" sz="28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500120" y="37440"/>
            <a:ext cx="74916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500120" y="836640"/>
            <a:ext cx="7491600" cy="540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Безопасность.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О</a:t>
            </a: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бучение правильному питанию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должно включать задачу формирования основных гигиенических навыков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.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Условия безопасности питания: 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соблюдение ребенком правил личной гигиены,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умение различать свежие и несвежие продукты,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осторожное обращение с незнакомыми продуктами.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Удовольствие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.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Как организовать процесс формирования навыков  здорового (правильного) питания?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Медико-санитарное просвещение на основе развития практических навыков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Основная цель школьного медико-санитарного просвещения - помочь учащимся перейти на здоровый образ жизни и создать условия, способствующие укреплению здоровья.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331640" y="188640"/>
            <a:ext cx="7491240" cy="89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Формы поведения и условия, отождествляемые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со здоровым питанием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500120" y="980640"/>
            <a:ext cx="74916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Формы поведения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, отождествляемые </a:t>
            </a: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со здоровым питанием: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Употребление в пищу главным образом злаковых/хлебных продуктов, овощей и фруктов;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Выбор в пользу продуктов из цельного зерна и свежих продуктов;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Употребление в пищу продуктов, содержащих важные витамины и минералы, например, витамин А, витамин С, железо и йод;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Умеренное потребление сахара, жиров и соли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Диета с низким содержанием жиров;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Употребление безопасной воды в количествах, необходимых для здоровья и утоления жажды;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Обязательное вскармливание грудью младенцев до четырех- - шестимесячного возраста.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Условия, способствующие безопасному здоровому питанию, включают в себя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Доступность безопасной воды и удаление отходов;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Доступ к дешевой здоровой пище;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Общественная поддержка здорового питания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1403280" y="-360"/>
            <a:ext cx="7515360" cy="659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Как организовать процесс формирования навыков   здорового питания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у обучающихся?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Arial"/>
              </a:rPr>
              <a:t>Направления работы:</a:t>
            </a:r>
            <a:endParaRPr b="1" lang="en-US" sz="3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Формирование жизненно-важных навыков;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Информирование;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Оздоровительное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Принцип обучения основам здорового пита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500120" y="1412640"/>
            <a:ext cx="7491600" cy="482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99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00"/>
                </a:solidFill>
                <a:latin typeface="Arial"/>
              </a:rPr>
              <a:t>Обучение основам  здорового питания должно отвечать принципу практической целесообразности</a:t>
            </a: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     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       </a:t>
            </a: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(все сведения, сообщаемые ребенку, формируемые навыки поведения, должны быть полезны в повседневной жизни).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968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Формы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 медико-санитарного просвещения</a:t>
            </a: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обучающихся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332000" y="1341360"/>
            <a:ext cx="7416720" cy="489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мини-</a:t>
            </a:r>
            <a:r>
              <a:rPr b="1" i="1" lang="ru-RU" sz="2000" spc="-1" strike="noStrike" u="sng">
                <a:solidFill>
                  <a:srgbClr val="333300"/>
                </a:solidFill>
                <a:uFillTx/>
                <a:latin typeface="Arial"/>
              </a:rPr>
              <a:t>лекции</a:t>
            </a: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, беседы, уроки здоровья;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Образовательная программа «Разговор о правильном питании» </a:t>
            </a:r>
            <a:r>
              <a:rPr b="1" i="1" lang="ru-RU" sz="1600" spc="-1" strike="noStrike">
                <a:solidFill>
                  <a:srgbClr val="333300"/>
                </a:solidFill>
                <a:latin typeface="Arial"/>
              </a:rPr>
              <a:t>Института возрастной физиологии РАО;</a:t>
            </a:r>
            <a:r>
              <a:rPr b="1" lang="ru-RU" sz="1600" spc="-1" strike="noStrike">
                <a:solidFill>
                  <a:srgbClr val="3333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ролевые игры</a:t>
            </a: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, </a:t>
            </a: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соревнования;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Дискуссии, дебаты;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Творческие конкурсы;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Издание буклетов, мини-книжек;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оформление «Уголка здорового питания», дневника здоровья, дневника питания;</a:t>
            </a: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формирование основ культуры здорового питания  через знакомство с народными традициями и обычаями, народной кухней;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Консультирование;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Аудиовизуальные средства.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1476360" y="333000"/>
            <a:ext cx="7491600" cy="593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00"/>
                </a:solidFill>
                <a:latin typeface="Times New Roman"/>
              </a:rPr>
              <a:t>    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Формирование культуры питания – это всегда сотрудничество родителей и педагога.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Первый шаг</a:t>
            </a: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 на этом пути – сформировать у взрослых членов семьи понимание важности и значения правильного питания для здоровья ребенка и их собственного здоровья, расширить их осведомленность в этой области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Второй шаг</a:t>
            </a: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 – убедить родителей в практической пользе воспитательной работы, проводимой образовательным учреждением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Третий шаг</a:t>
            </a: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– не допустить неуважительного отношения к традициям питания в семье.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Организация работы с родителями по вопросам пита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Формы работы: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лекции,   тематические занятия, </a:t>
            </a:r>
            <a:r>
              <a:rPr b="1" i="1" lang="ru-RU" sz="2400" spc="-1" strike="noStrike" u="sng">
                <a:solidFill>
                  <a:srgbClr val="333300"/>
                </a:solidFill>
                <a:uFillTx/>
                <a:latin typeface="Arial"/>
              </a:rPr>
              <a:t>беседы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выставки продуктов детского питания;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оформление информационного </a:t>
            </a:r>
            <a:r>
              <a:rPr b="1" i="1" lang="ru-RU" sz="2400" spc="-1" strike="noStrike" u="sng">
                <a:solidFill>
                  <a:srgbClr val="333300"/>
                </a:solidFill>
                <a:uFillTx/>
                <a:latin typeface="Arial"/>
              </a:rPr>
              <a:t>уголка</a:t>
            </a: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 для родителей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  </a:t>
            </a: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издание буклетов, </a:t>
            </a:r>
            <a:r>
              <a:rPr b="1" i="1" lang="ru-RU" sz="2400" spc="-1" strike="noStrike" u="sng">
                <a:solidFill>
                  <a:srgbClr val="333300"/>
                </a:solidFill>
                <a:uFillTx/>
                <a:latin typeface="Arial"/>
              </a:rPr>
              <a:t>мини-книжек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тренинги;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консультирование;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организация совета по питанию;</a:t>
            </a: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клубы для родителей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выступление медиков, диетологов.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Times New Roman"/>
              </a:rPr>
              <a:t>Здоровый образ жизни </a:t>
            </a:r>
            <a:br>
              <a:rPr sz="3200"/>
            </a:br>
            <a:r>
              <a:rPr b="0" lang="ru-RU" sz="3200" spc="-1" strike="noStrike">
                <a:solidFill>
                  <a:srgbClr val="333300"/>
                </a:solidFill>
                <a:latin typeface="Arial"/>
              </a:rPr>
              <a:t>П</a:t>
            </a:r>
            <a:r>
              <a:rPr b="0" lang="ru-RU" sz="3200" spc="-1" strike="noStrike">
                <a:solidFill>
                  <a:srgbClr val="333300"/>
                </a:solidFill>
                <a:latin typeface="Times New Roman"/>
              </a:rPr>
              <a:t>равильное пита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900000" y="1700280"/>
            <a:ext cx="388944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       </a:t>
            </a:r>
            <a:r>
              <a:rPr b="1" lang="ru-RU" sz="1600" spc="-1" strike="noStrike">
                <a:solidFill>
                  <a:srgbClr val="333300"/>
                </a:solidFill>
                <a:latin typeface="Arial"/>
              </a:rPr>
              <a:t>В пище содержатся основные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3300"/>
                </a:solidFill>
                <a:latin typeface="Arial"/>
              </a:rPr>
              <a:t>питательные вещества</a:t>
            </a: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,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333300"/>
                </a:solidFill>
                <a:latin typeface="Arial"/>
              </a:rPr>
              <a:t>которые являются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00"/>
                </a:solidFill>
                <a:latin typeface="Arial"/>
              </a:rPr>
              <a:t>строительным материалом для организма человека,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00"/>
                </a:solidFill>
                <a:latin typeface="Arial"/>
              </a:rPr>
              <a:t>источником энергии,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00"/>
                </a:solidFill>
                <a:latin typeface="Arial"/>
              </a:rPr>
              <a:t>укрепляют иммунитет.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238" name="i-main-pic" descr="Картинка 4 из 14981"/>
          <p:cNvPicPr/>
          <p:nvPr/>
        </p:nvPicPr>
        <p:blipFill>
          <a:blip r:embed="rId1"/>
          <a:stretch/>
        </p:blipFill>
        <p:spPr>
          <a:xfrm>
            <a:off x="4572000" y="2057400"/>
            <a:ext cx="4371840" cy="3962520"/>
          </a:xfrm>
          <a:prstGeom prst="rect">
            <a:avLst/>
          </a:prstGeom>
          <a:ln w="0">
            <a:noFill/>
          </a:ln>
        </p:spPr>
      </p:pic>
      <p:sp>
        <p:nvSpPr>
          <p:cNvPr id="239" name="Line 5"/>
          <p:cNvSpPr/>
          <p:nvPr/>
        </p:nvSpPr>
        <p:spPr>
          <a:xfrm>
            <a:off x="609480" y="1523880"/>
            <a:ext cx="8001000" cy="0"/>
          </a:xfrm>
          <a:prstGeom prst="line">
            <a:avLst/>
          </a:prstGeom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500120" y="37440"/>
            <a:ext cx="74916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500120" y="764640"/>
            <a:ext cx="7491600" cy="547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Недостаточность питательных веществ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 -</a:t>
            </a: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это физическое состояние человека, вызванное неправильно подобранной диетой или физической неспособностью усваивать   питательные вещества.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Это понятие включает в себя: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переедание: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человек получает с пищей больше калорий, чем расходует, что приводит к избыточному телесному жиру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;</a:t>
            </a: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 и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недоедание: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человек получает с пищей недостаточное количество калорий и питательных веществ, что приводит к уменьшению массы тела и/или дефициту питательных элементов.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i-main-pic" descr="Картинка 11 из 3252"/>
          <p:cNvPicPr/>
          <p:nvPr/>
        </p:nvPicPr>
        <p:blipFill>
          <a:blip r:embed="rId1"/>
          <a:stretch/>
        </p:blipFill>
        <p:spPr>
          <a:xfrm>
            <a:off x="1835280" y="1557360"/>
            <a:ext cx="2209680" cy="320040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87280" y="304560"/>
            <a:ext cx="74995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Помни: вредные продукты организм отравят и здоровья не прибавят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i-main-pic" descr="Картинка 17 из 3252"/>
          <p:cNvPicPr/>
          <p:nvPr/>
        </p:nvPicPr>
        <p:blipFill>
          <a:blip r:embed="rId2"/>
          <a:stretch/>
        </p:blipFill>
        <p:spPr>
          <a:xfrm>
            <a:off x="5292720" y="393372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243" name="i-main-pic" descr="Картинка 28 из 3252"/>
          <p:cNvPicPr/>
          <p:nvPr/>
        </p:nvPicPr>
        <p:blipFill>
          <a:blip r:embed="rId3"/>
          <a:stretch/>
        </p:blipFill>
        <p:spPr>
          <a:xfrm>
            <a:off x="5651640" y="1557360"/>
            <a:ext cx="2631960" cy="2136600"/>
          </a:xfrm>
          <a:prstGeom prst="rect">
            <a:avLst/>
          </a:prstGeom>
          <a:ln w="0">
            <a:noFill/>
          </a:ln>
        </p:spPr>
      </p:pic>
      <p:pic>
        <p:nvPicPr>
          <p:cNvPr id="244" name="i-main-pic" descr="Картинка 35 из 3252"/>
          <p:cNvPicPr/>
          <p:nvPr/>
        </p:nvPicPr>
        <p:blipFill>
          <a:blip r:embed="rId4"/>
          <a:srcRect l="6254" t="50012" r="12500" b="4168"/>
          <a:stretch/>
        </p:blipFill>
        <p:spPr>
          <a:xfrm>
            <a:off x="1692360" y="4941720"/>
            <a:ext cx="2971800" cy="1524240"/>
          </a:xfrm>
          <a:prstGeom prst="rect">
            <a:avLst/>
          </a:prstGeom>
          <a:ln w="0">
            <a:noFill/>
          </a:ln>
        </p:spPr>
      </p:pic>
      <p:sp>
        <p:nvSpPr>
          <p:cNvPr id="245" name="Line 9"/>
          <p:cNvSpPr/>
          <p:nvPr/>
        </p:nvSpPr>
        <p:spPr>
          <a:xfrm>
            <a:off x="684360" y="1341360"/>
            <a:ext cx="8001000" cy="0"/>
          </a:xfrm>
          <a:prstGeom prst="line">
            <a:avLst/>
          </a:prstGeom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88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Times New Roman"/>
              </a:rPr>
              <a:t>Здоровый образ жизни </a:t>
            </a:r>
            <a:br>
              <a:rPr sz="3200"/>
            </a:br>
            <a:r>
              <a:rPr b="0" lang="ru-RU" sz="3200" spc="-1" strike="noStrike">
                <a:solidFill>
                  <a:srgbClr val="333300"/>
                </a:solidFill>
                <a:latin typeface="Times New Roman"/>
              </a:rPr>
              <a:t>Правильное пита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332000" y="1773000"/>
            <a:ext cx="331128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Постоянно нужно есть -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Для здоровья важно - 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Фрукты, овощи, омлет,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Творог, простоквашу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248" name="i-main-pic" descr="Картинка 13 из 14981"/>
          <p:cNvPicPr/>
          <p:nvPr/>
        </p:nvPicPr>
        <p:blipFill>
          <a:blip r:embed="rId1"/>
          <a:stretch/>
        </p:blipFill>
        <p:spPr>
          <a:xfrm>
            <a:off x="4572000" y="2481120"/>
            <a:ext cx="4343400" cy="3081600"/>
          </a:xfrm>
          <a:prstGeom prst="rect">
            <a:avLst/>
          </a:prstGeom>
          <a:ln w="0">
            <a:noFill/>
          </a:ln>
        </p:spPr>
      </p:pic>
      <p:sp>
        <p:nvSpPr>
          <p:cNvPr id="249" name="Line 9"/>
          <p:cNvSpPr/>
          <p:nvPr/>
        </p:nvSpPr>
        <p:spPr>
          <a:xfrm>
            <a:off x="685800" y="1600200"/>
            <a:ext cx="8001000" cy="0"/>
          </a:xfrm>
          <a:prstGeom prst="line">
            <a:avLst/>
          </a:prstGeom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Times New Roman"/>
              </a:rPr>
              <a:t>Здоровый образ жизни </a:t>
            </a:r>
            <a:br>
              <a:rPr sz="3200"/>
            </a:br>
            <a:r>
              <a:rPr b="0" lang="ru-RU" sz="3200" spc="-1" strike="noStrike">
                <a:solidFill>
                  <a:srgbClr val="333300"/>
                </a:solidFill>
                <a:latin typeface="Arial"/>
              </a:rPr>
              <a:t>П</a:t>
            </a:r>
            <a:r>
              <a:rPr b="0" lang="ru-RU" sz="3200" spc="-1" strike="noStrike">
                <a:solidFill>
                  <a:srgbClr val="333300"/>
                </a:solidFill>
                <a:latin typeface="Times New Roman"/>
              </a:rPr>
              <a:t>равильное пита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i-main-pic" descr="Картинка 20 из 14981"/>
          <p:cNvPicPr/>
          <p:nvPr/>
        </p:nvPicPr>
        <p:blipFill>
          <a:blip r:embed="rId1"/>
          <a:stretch/>
        </p:blipFill>
        <p:spPr>
          <a:xfrm>
            <a:off x="5522760" y="1698480"/>
            <a:ext cx="3260880" cy="373068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 txBox="1"/>
          <p:nvPr/>
        </p:nvSpPr>
        <p:spPr>
          <a:xfrm>
            <a:off x="1499760" y="1762200"/>
            <a:ext cx="3676680" cy="227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3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Надо любить есть все овощи и фрукты, мясо и рыбу,  хлеб и кашу.  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2635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Как гласит народная мудрость: «Овощи и фрукты – кладовая здоровья».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263520">
              <a:spcBef>
                <a:spcPts val="4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402920" y="5638320"/>
            <a:ext cx="743580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3366"/>
                </a:solidFill>
                <a:latin typeface="Arial"/>
              </a:rPr>
              <a:t>«Я ем, чтобы быть здоровым!»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54" name="Line 7"/>
          <p:cNvSpPr/>
          <p:nvPr/>
        </p:nvSpPr>
        <p:spPr>
          <a:xfrm>
            <a:off x="685800" y="1523880"/>
            <a:ext cx="8001000" cy="0"/>
          </a:xfrm>
          <a:prstGeom prst="line">
            <a:avLst/>
          </a:prstGeom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52760" y="907560"/>
            <a:ext cx="7022880" cy="180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i="1" lang="ru-RU" sz="3600" spc="-1" strike="noStrike">
                <a:solidFill>
                  <a:srgbClr val="0000ff"/>
                </a:solidFill>
                <a:latin typeface="Arial"/>
              </a:rPr>
              <a:t>Благодарю за внимание!</a:t>
            </a:r>
            <a:br>
              <a:rPr sz="3600"/>
            </a:br>
            <a:r>
              <a:rPr b="0" i="1" lang="ru-RU" sz="54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476360" y="3357360"/>
            <a:ext cx="7392960" cy="28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00"/>
                </a:solidFill>
                <a:latin typeface="Arial"/>
              </a:rPr>
              <a:t>Интернет ресурс </a:t>
            </a: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http://pitanie-detey.ru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Питание детей. Все лучшее детям. 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00"/>
                </a:solidFill>
                <a:latin typeface="Times New Roman"/>
              </a:rPr>
              <a:t>       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Причины недостаточности питательных веществ</a:t>
            </a:r>
            <a:r>
              <a:rPr b="1" i="1" lang="ru-RU" sz="4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в организме человека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500120" y="1844640"/>
            <a:ext cx="7491600" cy="43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00"/>
                </a:solidFill>
                <a:latin typeface="Arial"/>
              </a:rPr>
              <a:t>инфекции, ухудшающие аппетит;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00"/>
                </a:solidFill>
                <a:latin typeface="Arial"/>
              </a:rPr>
              <a:t>отсутствие доступа к пище;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00"/>
                </a:solidFill>
                <a:latin typeface="Arial"/>
              </a:rPr>
              <a:t>недостаточно развитые медико-санитарные услуги;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00"/>
                </a:solidFill>
                <a:latin typeface="Arial"/>
              </a:rPr>
              <a:t>бедность.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 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00120" y="73080"/>
            <a:ext cx="74916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500120" y="549360"/>
            <a:ext cx="7491600" cy="568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очему именно в образовательных учреждениях следует принимать меры по улучшению питания?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Качественное питание укрепляет   здоровье детей.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Образовательные учреждения играют жизненно важную роль, содействуя качественному питанию укрепляют способность детей к учению.  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9933"/>
              </a:buClr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Квалифицированные специалисты знают, как улучшить здоровье и самочувствие путем оказания помощи через школы, ДОУ</a:t>
            </a:r>
            <a:r>
              <a:rPr b="1" i="1" lang="ru-RU" sz="1800" spc="-1" strike="noStrike">
                <a:solidFill>
                  <a:srgbClr val="333300"/>
                </a:solidFill>
                <a:latin typeface="Arial"/>
              </a:rPr>
              <a:t> (внедрение учебных программ по медико-санитарному просвещению обучающихся и воспитанников). 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109440"/>
            <a:ext cx="74916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500120" y="980640"/>
            <a:ext cx="74916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00"/>
                </a:solidFill>
                <a:latin typeface="Arial"/>
              </a:rPr>
              <a:t>Школы могут оказывать экономически эффективную помощь в области питания.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00"/>
                </a:solidFill>
                <a:latin typeface="Arial"/>
              </a:rPr>
              <a:t>    </a:t>
            </a:r>
            <a:r>
              <a:rPr b="1" i="1" lang="ru-RU" sz="2800" spc="-1" strike="noStrike">
                <a:solidFill>
                  <a:srgbClr val="333300"/>
                </a:solidFill>
                <a:latin typeface="Arial"/>
              </a:rPr>
              <a:t>(</a:t>
            </a: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школьные здравоохранительные программы, обеспечивающие безопасные и недорогие услуги в этой области, представляют собой один из наиболее рентабельных видов инвестиций государства на здравоохранение).</a:t>
            </a: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333300"/>
                </a:solidFill>
                <a:latin typeface="Arial"/>
              </a:rPr>
              <a:t>Просвещение и здоровое питание для девочек положительно влияет на здоровье членов семьи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00120" y="109440"/>
            <a:ext cx="74916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00120" y="907920"/>
            <a:ext cx="7491600" cy="533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Здоровое питание уменьшает опасность возникновения проблем со здоровьем, наиболее характерных для настоящего времени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     </a:t>
            </a: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(проявление первых признаков</a:t>
            </a: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333300"/>
                </a:solidFill>
                <a:latin typeface="Arial"/>
              </a:rPr>
              <a:t>хронических заболеваний: ожирение, сердечно-сосудистые заболевания, рак и нарушения пищеварения</a:t>
            </a: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).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00"/>
                </a:solidFill>
                <a:latin typeface="Arial"/>
              </a:rPr>
              <a:t>Просвещение в области питания оказывает   влияние на формирование полезных для здоровья привычек в этой области, что, в свою очередь, ведет к уменьшению опасности возникновения болезней, связанных с питанием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Благоприятная для здоровья среда обучен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00"/>
                </a:solidFill>
                <a:latin typeface="Arial"/>
              </a:rPr>
              <a:t>техническое окружение</a:t>
            </a: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Техническое окружение включает в себя школьное здание, классы, места питания, воду и продукты питания, предлагаемые в школе, а также саму местность, в которой находится школа. 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00"/>
                </a:solidFill>
                <a:latin typeface="Arial"/>
              </a:rPr>
              <a:t>психосоциальное окружение</a:t>
            </a: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    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К психосоциальному окружению относятся социально-бытовые и психологические условия, влияющие на образование и здоровье школьников. (</a:t>
            </a:r>
            <a:r>
              <a:rPr b="1" i="1" lang="ru-RU" sz="1800" spc="-1" strike="noStrike">
                <a:solidFill>
                  <a:srgbClr val="333300"/>
                </a:solidFill>
                <a:latin typeface="Arial"/>
              </a:rPr>
              <a:t>Оно включает в себя культурные нормы и пожелания, касающиеся пищи и качества питания, высказываемые школьниками, родителями и школьным персоналом)</a:t>
            </a:r>
            <a:r>
              <a:rPr b="1" lang="ru-RU" sz="1800" spc="-1" strike="noStrike">
                <a:solidFill>
                  <a:srgbClr val="333300"/>
                </a:solidFill>
                <a:latin typeface="Arial"/>
              </a:rPr>
              <a:t>.  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2T09:18:02Z</dcterms:created>
  <dc:creator>anl</dc:creator>
  <dc:description/>
  <dc:language>en-US</dc:language>
  <cp:lastModifiedBy>User</cp:lastModifiedBy>
  <dcterms:modified xsi:type="dcterms:W3CDTF">2020-09-13T14:38:45Z</dcterms:modified>
  <cp:revision>135</cp:revision>
  <dc:subject/>
  <dc:title>Формирование культуры здорового питания © Легкошур И.М. старший методист «ЦСЗ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4</vt:r8>
  </property>
</Properties>
</file>